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EC07-352A-4775-BA45-0C0F7952E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87AE-1C2D-416C-98B6-BB12516F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51DB-CC53-4B26-8375-4F00B2797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2B38-5E59-42B0-BC5B-959C2D1F8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7D9C-D682-4C39-8F56-BFC01EEE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2BFF-6ECD-476B-98D1-689A3FFA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720B-6BEB-4DF0-81D8-2C85A3F7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89B9-6DDA-461C-BA4B-D92DA7E2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3E5D-3EAA-4117-9E7F-CC25DE0A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B592-7053-446C-A091-158A2ACC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DA83-6D41-4C44-852D-658DE5D8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50E9-ABF2-42CE-966B-18B8C8D4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77B0-A799-4C6D-BA79-420D17B69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45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191120" y="0"/>
            <a:ext cx="4952880" cy="9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هل أطرقُ بابَكَ بعد ضَياع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الكُّلي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و يصلُحُ أ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أقتربَ إليك بذِل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ضيعتُ أنا فرحتي مني بجهل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قد كنتَ حبيبي وخلِّي أنت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بل أهل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تركتُكَ لكني أعودُ فتَرحم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لا بيدي إلا الوعد ليَسْتُرَ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قلبي بأحشائي ينادي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أُغمر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َشتاقُ لحضنِ الآب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وعطفُه يقبلُ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057400" y="4568760"/>
            <a:ext cx="6172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جمِّلني فقُبحي قد ذَهَبَ حتى الأحش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سَوادُ الليلِ تسرَّبَ فيَّ انتشرَ الد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شتاقُ لخالقٍ من عدمٍ يضعُ الأشي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فيُغَيِّر قلبي ويُلبسني حللا بيض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13:59:33Z</dcterms:created>
  <dc:creator>USER</dc:creator>
  <dc:description/>
  <dc:language>en-US</dc:language>
  <cp:lastModifiedBy>HANI SAFI</cp:lastModifiedBy>
  <dcterms:modified xsi:type="dcterms:W3CDTF">2003-03-14T12:16:47Z</dcterms:modified>
  <cp:revision>8</cp:revision>
  <dc:subject/>
  <dc:title>PowerPoint Presentation</dc:title>
</cp:coreProperties>
</file>